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jpeg" ContentType="image/jpeg"/>
  <Override PartName="/ppt/media/image24.png" ContentType="image/png"/>
  <Override PartName="/ppt/media/image11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0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17.png" ContentType="image/png"/>
  <Override PartName="/ppt/media/image32.jpeg" ContentType="image/jpeg"/>
  <Override PartName="/ppt/media/image28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6.png" ContentType="image/png"/>
  <Override PartName="/ppt/media/image31.png" ContentType="image/png"/>
  <Override PartName="/ppt/media/image9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3CE9D-7316-4396-9CC7-1B044D708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48797-4C2C-4217-86C5-90A769039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05E13-166E-4083-B47E-7E4A5D6AD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0DEFAB-E81B-447F-A9BF-45E0DA27A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95937C-FBAC-4685-BB29-8A2FF1AA9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628C8-DCE9-4FBE-972E-71A703920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1AEB4-76A0-482F-A58E-94EB185E4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3DB3-2C4E-4CC6-894F-4EA9FB3A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478-C4FB-41A6-A39F-B5FD74011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4D5-966D-47B8-B545-4A53F7D3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5766-9F41-485C-898C-DBA74D88E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A49FA-A9B6-4C24-B396-360E6E7A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B345-E299-41C9-A9CA-266E445C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3D2A-A9E7-4D10-987A-96957B33F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C35B-BED7-49F5-879F-B9C22AC7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959C-94A9-412B-8257-F742071B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9985-A59F-4968-8825-4636FA63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85FA-7D82-4174-B1D1-B90C3C6A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ED1C-6B58-4047-BA9B-CBFAAD45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5DD63-783D-453E-BE78-8D97960D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2114-D85C-49FF-9B60-55977E16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5584-F790-4660-947E-2FC2239D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01127-9C38-44CE-B8E0-F1BC9528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B8A37-CAAB-463A-8718-CC3EDADB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A5E-8EBC-4984-9E27-496D65F0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7D85-1B80-4DAE-B507-BF7EF88E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292-5C8E-49E8-B64E-471F59F0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7F52-BD5D-4C9A-ACDF-15AB06BA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696B-13B7-4DC7-B2E8-C347B266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6EE-E1F1-4C70-8170-9C4D9391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CB39-FB03-4206-BB7B-710D78B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43231-C860-43D8-BC0F-DCE4AAB25FAF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BC8D7-75A3-4316-B905-541E7B539E97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21B7EC-7B4A-4786-8129-98CD1C4D622E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BAF9F-1BE6-4E6F-924C-D300CD2B7B24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Osmotic_pressure_on_blood_cells_diagram.svg" TargetMode="External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fpOxgAU5fFQ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apter 3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logy Part 1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Biology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Cobb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wo Types of Cel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ukaryotic Cell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Has a membrane bound nucleus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embrane bound organelles in the cytoplasm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rganelles -  a structure that performs special functions in the cell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21120" indent="-3211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karyotic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Bacteria and Blue-green alga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ack a membrane around nucleus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tains only non-membrane bound organell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30720" indent="-309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49000" y="1599840"/>
            <a:ext cx="8366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parates the cell from the environmen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gulates what comes in and out of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tains lipids, because lipids do not dissolve in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spholipids in a lipid bilaye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mbrane proteins throughout the membrane with different functio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9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9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5" name="Content Placeholder 3" descr="plasmamembrane3.jpg"/>
          <p:cNvPicPr/>
          <p:nvPr/>
        </p:nvPicPr>
        <p:blipFill>
          <a:blip r:embed="rId2"/>
          <a:srcRect l="-14756" t="0" r="-14756" b="0"/>
          <a:stretch/>
        </p:blipFill>
        <p:spPr>
          <a:xfrm>
            <a:off x="1828800" y="1444680"/>
            <a:ext cx="4803840" cy="2593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plasmamembranefigure1.jpg"/>
          <p:cNvPicPr/>
          <p:nvPr/>
        </p:nvPicPr>
        <p:blipFill>
          <a:blip r:embed="rId3"/>
          <a:stretch/>
        </p:blipFill>
        <p:spPr>
          <a:xfrm>
            <a:off x="1295280" y="4100400"/>
            <a:ext cx="507996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ma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18" name="Content Placeholder 3" descr="Plasma_Membrane_Quiz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-592200" y="1444680"/>
            <a:ext cx="9736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nly in plant cells outside the plasma membra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of cellulose and rigi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of th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rim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condar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s pores for transport and communica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2" name="Content Placeholder 3" descr="zonata_3.jpg"/>
          <p:cNvPicPr/>
          <p:nvPr/>
        </p:nvPicPr>
        <p:blipFill>
          <a:blip r:embed="rId2"/>
          <a:srcRect l="-19363" t="0" r="-19363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Wa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4" name="Content Placeholder 3" descr="cell_wall-13227.jpg"/>
          <p:cNvPicPr/>
          <p:nvPr/>
        </p:nvPicPr>
        <p:blipFill>
          <a:blip r:embed="rId2"/>
          <a:srcRect l="-25560" t="0" r="-2556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plas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verything inside the cell except the nucle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ytoplasmic streaming is moving the organelles around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owerhouse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an shap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urn chemical energy in sugar into usable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wo membran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ristae – inner membrane with many folds for more surface area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their own DNA (directly from maternal lineage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0" name="Content Placeholder 3" descr="images.jpg"/>
          <p:cNvPicPr/>
          <p:nvPr/>
        </p:nvPicPr>
        <p:blipFill>
          <a:blip r:embed="rId2"/>
          <a:srcRect l="-45511" t="0" r="-45511" b="0"/>
          <a:stretch/>
        </p:blipFill>
        <p:spPr>
          <a:xfrm>
            <a:off x="-1752480" y="16002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images -1.jpg"/>
          <p:cNvPicPr/>
          <p:nvPr/>
        </p:nvPicPr>
        <p:blipFill>
          <a:blip r:embed="rId3"/>
          <a:stretch/>
        </p:blipFill>
        <p:spPr>
          <a:xfrm>
            <a:off x="4950000" y="2481120"/>
            <a:ext cx="3889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lo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study of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rst observed and noted by Robert Hooke in 1665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rk cell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Named cells because it looked like rooms in a monastery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4" name="Picture 3" descr="robert hooke.jpg"/>
          <p:cNvPicPr/>
          <p:nvPr/>
        </p:nvPicPr>
        <p:blipFill>
          <a:blip r:embed="rId2"/>
          <a:stretch/>
        </p:blipFill>
        <p:spPr>
          <a:xfrm>
            <a:off x="2971800" y="2730600"/>
            <a:ext cx="1841400" cy="225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hookecork.jpg"/>
          <p:cNvPicPr/>
          <p:nvPr/>
        </p:nvPicPr>
        <p:blipFill>
          <a:blip r:embed="rId3"/>
          <a:stretch/>
        </p:blipFill>
        <p:spPr>
          <a:xfrm>
            <a:off x="5372280" y="2730600"/>
            <a:ext cx="211752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Mitochond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3" name="Content Placeholder 3" descr="mitmor4.jpg"/>
          <p:cNvPicPr/>
          <p:nvPr/>
        </p:nvPicPr>
        <p:blipFill>
          <a:blip r:embed="rId2"/>
          <a:srcRect l="-12666" t="0" r="-12666" b="0"/>
          <a:stretch/>
        </p:blipFill>
        <p:spPr>
          <a:xfrm>
            <a:off x="-380880" y="1600200"/>
            <a:ext cx="5502240" cy="3467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Mitochondria simple structure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ibosom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n-membrane bound organelle found in prokaryotes and Eukaryo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d to make protei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ree floating or on the E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of 2 parts (we will discuss this later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plasmic Reticulum (ER)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round the nucleu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ugh ER has ribosomes on it, smooth ER does no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ugh ER produces protein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mooth ER produces lipids and hormone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plasmic Reticulum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0" name="Content Placeholder 3" descr="2820694.jpg"/>
          <p:cNvPicPr/>
          <p:nvPr/>
        </p:nvPicPr>
        <p:blipFill>
          <a:blip r:embed="rId2"/>
          <a:srcRect l="-19430" t="0" r="-1943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Rough ER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2" name="Content Placeholder 3" descr="rough_er-em.gif"/>
          <p:cNvPicPr/>
          <p:nvPr/>
        </p:nvPicPr>
        <p:blipFill>
          <a:blip r:embed="rId2"/>
          <a:srcRect l="-29852" t="0" r="-29852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nal processing and packaging of produced compound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PS of the cell, packaging compounds into sac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 Bod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6" name="Content Placeholder 3" descr="golgi6.jpg"/>
          <p:cNvPicPr/>
          <p:nvPr/>
        </p:nvPicPr>
        <p:blipFill>
          <a:blip r:embed="rId2"/>
          <a:srcRect l="-9844" t="0" r="-9844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Golgi Bod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48" name="Content Placeholder 3" descr="golgi_2.jpg"/>
          <p:cNvPicPr/>
          <p:nvPr/>
        </p:nvPicPr>
        <p:blipFill>
          <a:blip r:embed="rId2"/>
          <a:srcRect l="-23510" t="0" r="-23510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ysosom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hat does “lys” mean?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ys means to break dow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reak down invaders, food, old cell componen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ny fibers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hap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eng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ove structures around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1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iginal Microscop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97" name="Content Placeholder 3" descr="hookemicro.gif"/>
          <p:cNvPicPr/>
          <p:nvPr/>
        </p:nvPicPr>
        <p:blipFill>
          <a:blip r:embed="rId2"/>
          <a:srcRect l="-46735" t="0" r="-4673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55" name="Picture 3" descr="http://www.ccs.k12.in.us/chsBS/kons/kons/eukaryotic%20cell/cytoplasm_and_its_associated_str_files/image029.jpg"/>
          <p:cNvPicPr/>
          <p:nvPr/>
        </p:nvPicPr>
        <p:blipFill>
          <a:blip r:embed="rId2"/>
          <a:stretch/>
        </p:blipFill>
        <p:spPr>
          <a:xfrm>
            <a:off x="549360" y="1600200"/>
            <a:ext cx="76960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57" name="Content Placeholder 3" descr="cytoskeletonn.jpg"/>
          <p:cNvPicPr/>
          <p:nvPr/>
        </p:nvPicPr>
        <p:blipFill>
          <a:blip r:embed="rId2"/>
          <a:srcRect l="-47577" t="0" r="-47577" b="0"/>
          <a:stretch/>
        </p:blipFill>
        <p:spPr>
          <a:xfrm>
            <a:off x="-1752480" y="16002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cytoskeleton.jpg"/>
          <p:cNvPicPr/>
          <p:nvPr/>
        </p:nvPicPr>
        <p:blipFill>
          <a:blip r:embed="rId3"/>
          <a:stretch/>
        </p:blipFill>
        <p:spPr>
          <a:xfrm>
            <a:off x="4699080" y="2335320"/>
            <a:ext cx="44449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Flagella and Cil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lagellum is a long tai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ilia are short hairs that cover the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63" name="Picture 3" descr="membrane_flow"/>
          <p:cNvPicPr/>
          <p:nvPr/>
        </p:nvPicPr>
        <p:blipFill>
          <a:blip r:embed="rId2"/>
          <a:stretch/>
        </p:blipFill>
        <p:spPr>
          <a:xfrm>
            <a:off x="2286000" y="380880"/>
            <a:ext cx="525780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stid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nd in cells of plants, algae and few other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orage container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typ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Leukoplasts – contain starch or oil for the plan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hromoplasts – contain pigmen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st known is chloroplast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starch2"/>
          <p:cNvPicPr/>
          <p:nvPr/>
        </p:nvPicPr>
        <p:blipFill>
          <a:blip r:embed="rId3"/>
          <a:stretch/>
        </p:blipFill>
        <p:spPr>
          <a:xfrm>
            <a:off x="0" y="457200"/>
            <a:ext cx="879624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verts light energy into chemical energ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tball shaped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ave their own DNA (like the mitochondri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 struct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ylakoids – sack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Granum – stacks of thylakoi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troma – flui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lorophyll – green pigme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 – making sug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4" name="Content Placeholder 3" descr="cplastruct.gif"/>
          <p:cNvPicPr/>
          <p:nvPr/>
        </p:nvPicPr>
        <p:blipFill>
          <a:blip r:embed="rId2"/>
          <a:srcRect l="-15525" t="0" r="-1552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6" name="Content Placeholder 3" descr="chloroplast1.gif"/>
          <p:cNvPicPr/>
          <p:nvPr/>
        </p:nvPicPr>
        <p:blipFill>
          <a:blip r:embed="rId2"/>
          <a:srcRect l="-15808" t="0" r="-15808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ther people noticing cell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eeuwenhoek saw living organisms in 1674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obert Brown found the nucleus in 1833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toplasm – the “stuff” inside the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las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78" name="Content Placeholder 3" descr="biol_01_img0077.jpg"/>
          <p:cNvPicPr/>
          <p:nvPr/>
        </p:nvPicPr>
        <p:blipFill>
          <a:blip r:embed="rId2"/>
          <a:srcRect l="-6132" t="0" r="-6132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ucleu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ntrol cente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NA replication and RNA transcrip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ar Envelope is a double membrane that surrounds the nucleu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ar pores or opening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romatin material – DNA and other protei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ucleolus – center part of nucleu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Nucleu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82" name="Content Placeholder 3" descr="cell127.gif"/>
          <p:cNvPicPr/>
          <p:nvPr/>
        </p:nvPicPr>
        <p:blipFill>
          <a:blip r:embed="rId2"/>
          <a:srcRect l="0" t="-271" r="0" b="-271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Vacuol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mbrane-bound sa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unction: storag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od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Wast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inocyt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ntral vacuole in plant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ytoskelet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3 Type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crofilaments – support network inside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termediate filaments – strengt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icrotubules – internal framework for transport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77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77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0" dur="77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62" dur="77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4" dur="77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77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1" dur="77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77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2" dur="77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6" dur="77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vironment Respons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meostasis – steady sta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amples of responses (no need to writ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ur body temp. is 98.6 degrees Fahrenhei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hive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wea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eizure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olutions around the ce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onicity: dissolved substanc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sotonic: same # of dissolved substanc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pertonic: more dissolved substanc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potonic: fewer dissolved substanc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289800" indent="-2898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News Gothic MT"/>
              </a:rPr>
              <a:t>REMEMBER WE ARE TALKING ABOUT THE SOLUTION AROUND THE CELL!!!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9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4" dur="5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9" dur="5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500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Solutions around the cel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pertonic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H</a:t>
            </a:r>
            <a:r>
              <a:rPr b="0" lang="en-US" sz="22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 will move out of the cell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lasmolysis – plasma membrane breaks off from cell wall.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potonic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H</a:t>
            </a:r>
            <a:r>
              <a:rPr b="0" lang="en-US" sz="22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O moves into cel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ytolysis – cell expands and bursts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c8x12cell"/>
          <p:cNvPicPr/>
          <p:nvPr/>
        </p:nvPicPr>
        <p:blipFill>
          <a:blip r:embed="rId2"/>
          <a:stretch/>
        </p:blipFill>
        <p:spPr>
          <a:xfrm>
            <a:off x="380880" y="457200"/>
            <a:ext cx="8763120" cy="61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9" descr="Effect of different solutions on blood cell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2257560"/>
            <a:ext cx="8153640" cy="42670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ghosts"/>
          <p:cNvPicPr/>
          <p:nvPr/>
        </p:nvPicPr>
        <p:blipFill>
          <a:blip r:embed="rId4"/>
          <a:stretch/>
        </p:blipFill>
        <p:spPr>
          <a:xfrm>
            <a:off x="6172200" y="152280"/>
            <a:ext cx="2371680" cy="177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Theor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cell is the basic unit of lif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s perform all the functions of living thing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s come from pre-existing cell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Hyper    and      Hyp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11" name="Content Placeholder 3" descr="red blood cell hypertonic soln.jpg"/>
          <p:cNvPicPr/>
          <p:nvPr/>
        </p:nvPicPr>
        <p:blipFill>
          <a:blip r:embed="rId2"/>
          <a:srcRect l="-65467" t="0" r="-65467" b="0"/>
          <a:stretch/>
        </p:blipFill>
        <p:spPr>
          <a:xfrm>
            <a:off x="-1981080" y="182880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red blood cell hypotonic soln.jpg"/>
          <p:cNvPicPr/>
          <p:nvPr/>
        </p:nvPicPr>
        <p:blipFill>
          <a:blip r:embed="rId3"/>
          <a:stretch/>
        </p:blipFill>
        <p:spPr>
          <a:xfrm>
            <a:off x="5410080" y="1816200"/>
            <a:ext cx="349272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9" descr="elcell7a"/>
          <p:cNvPicPr/>
          <p:nvPr/>
        </p:nvPicPr>
        <p:blipFill>
          <a:blip r:embed="rId2"/>
          <a:stretch/>
        </p:blipFill>
        <p:spPr>
          <a:xfrm>
            <a:off x="304920" y="2209680"/>
            <a:ext cx="8229600" cy="413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urgor pressur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22" name="Content Placeholder 3" descr="image006.jpg"/>
          <p:cNvPicPr/>
          <p:nvPr/>
        </p:nvPicPr>
        <p:blipFill>
          <a:blip r:embed="rId2"/>
          <a:srcRect l="-19534" t="0" r="-19534" b="0"/>
          <a:stretch/>
        </p:blipFill>
        <p:spPr>
          <a:xfrm>
            <a:off x="1523880" y="3429000"/>
            <a:ext cx="6021360" cy="3252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plm6s1_1.jpg"/>
          <p:cNvPicPr/>
          <p:nvPr/>
        </p:nvPicPr>
        <p:blipFill>
          <a:blip r:embed="rId3"/>
          <a:stretch/>
        </p:blipFill>
        <p:spPr>
          <a:xfrm>
            <a:off x="2438280" y="1444680"/>
            <a:ext cx="41468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9" descr="elocel2"/>
          <p:cNvPicPr/>
          <p:nvPr/>
        </p:nvPicPr>
        <p:blipFill>
          <a:blip r:embed="rId2"/>
          <a:stretch/>
        </p:blipFill>
        <p:spPr>
          <a:xfrm>
            <a:off x="266760" y="2060640"/>
            <a:ext cx="8877240" cy="487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8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8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94920" y="1519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Comic Sans MS"/>
              </a:rPr>
              <a:t>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213b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4343400" y="4267080"/>
            <a:ext cx="990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4343400" y="419112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4419720" y="1905120"/>
            <a:ext cx="11430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5181480" y="10666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7848720" y="4114800"/>
            <a:ext cx="12952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9" descr="elod3"/>
          <p:cNvPicPr/>
          <p:nvPr/>
        </p:nvPicPr>
        <p:blipFill>
          <a:blip r:embed="rId2"/>
          <a:stretch/>
        </p:blipFill>
        <p:spPr>
          <a:xfrm>
            <a:off x="1828800" y="533520"/>
            <a:ext cx="5943600" cy="565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Transportation across the membran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ssive Transpor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assive Mediated Transpor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ctive Transport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ssive Trans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quires no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actors affecting Transport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ncentra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ize and Weight of molecul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hap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harg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Fat-solubilit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embrane composition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ssive Mediated Trans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rotein chann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pecific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ated protein channel”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rrier Protei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Specific receptor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Gate that changes shape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g. 92 figure 3B.4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ctive Transpor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gainst concentration gradien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posite of diffus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quires energy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ermed “pumps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cyto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ulk substances across membran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 membrane folds in and forms a vacuo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agocytosis – eating another cel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inocytosis – “cell drinking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030a0"/>
                </a:solidFill>
                <a:uFillTx/>
                <a:latin typeface="News Gothic MT"/>
                <a:hlinkClick r:id="rId2"/>
              </a:rPr>
              <a:t>Phagocyto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vels of Cellular Organiza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nicellular – one – cell organism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Colonial organism – a collection of similar cells living together.  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ulti-cellul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issu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gan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rgan system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xocyto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pposite of Endocyto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I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Endocytosis and Exocyto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253" name="Content Placeholder 3" descr="nrm2060-f2.jpg"/>
          <p:cNvPicPr/>
          <p:nvPr/>
        </p:nvPicPr>
        <p:blipFill>
          <a:blip r:embed="rId2"/>
          <a:srcRect l="-20997" t="0" r="-20997" b="0"/>
          <a:stretch/>
        </p:blipFill>
        <p:spPr>
          <a:xfrm>
            <a:off x="0" y="1676520"/>
            <a:ext cx="8888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Job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bsorb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Diges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xcre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ges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re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ynthesi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espir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nimal Cell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7" name="Content Placeholder 3" descr="structure_animal_ce_c_la_784.jpg"/>
          <p:cNvPicPr/>
          <p:nvPr/>
        </p:nvPicPr>
        <p:blipFill>
          <a:blip r:embed="rId2"/>
          <a:srcRect l="-18797" t="0" r="-18797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lant Cell Anatom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9" name="Content Placeholder 3" descr="anatomy - 1.gif"/>
          <p:cNvPicPr/>
          <p:nvPr/>
        </p:nvPicPr>
        <p:blipFill>
          <a:blip r:embed="rId2"/>
          <a:srcRect l="-26457" t="0" r="-26457" b="0"/>
          <a:stretch/>
        </p:blipFill>
        <p:spPr>
          <a:xfrm>
            <a:off x="-415800" y="1417680"/>
            <a:ext cx="9559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20:27:58Z</dcterms:created>
  <dc:creator>Jason Cobb</dc:creator>
  <dc:description/>
  <dc:language>en-US</dc:language>
  <cp:lastModifiedBy>Jason Cobb</cp:lastModifiedBy>
  <dcterms:modified xsi:type="dcterms:W3CDTF">2011-10-24T00:44:33Z</dcterms:modified>
  <cp:revision>34</cp:revision>
  <dc:subject/>
  <dc:title>Chapter 3</dc:title>
</cp:coreProperties>
</file>